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88B-61CB-4059-8736-DFD42729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187-1D5E-469B-818D-0AB702DE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94F-1B41-472F-A85A-0A668004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786-0B03-47FE-A5FC-685641B5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F810-63C6-4387-B28F-7FD4FA00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ECF0-6E14-4638-BF68-ABA1560B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9CF2-7CC1-452E-A72D-8367705D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0936-E9D5-4277-A264-7E5ACAD1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06DB-E6C7-490A-B88A-000984C0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CF85-0E5D-4961-8C80-DB679910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B201-7C6A-4224-A231-A099464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F51-DDC5-43C5-BE94-AD4E832D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6F86-4336-450E-B021-2BB79FB6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4987-90BD-4587-A225-24FC05C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7CE9-2724-4EAF-B57E-EB828ACB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58A6-AA65-41A6-8D65-001B380D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7962-E95F-458B-8367-F7C7113D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2BB-DCE0-4951-9672-DDACEE81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E58-5EC3-4A74-8E66-BE970918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278-34F7-4CF9-8B01-D0F9B779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D89-5C92-49AE-A04E-AF1DDDC9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CBE-D707-4795-9BE0-A1CE3FB8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12B-788A-4FED-97F7-D675C1DA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F29-77EA-4FEC-9400-CF70166D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6F60-F80E-4D04-A027-B057DA46968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6713-A473-4B9D-A0FD-A4D6EEF8E5C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o Tell The Good News –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arter 12, Lesson 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mans 8-16; Acts 20:3b-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gs.172-17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d’s Plan For Righteousn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mands righteous lives – 12:1 – 15:1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view of God’s Mercy, let your lives be transformed – 12:1-2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lfill your obligations of love to others – 13:1-1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w concern for the spiritual welfare of your brethren in Christ – 14:1-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n’t deal harshly with a weak brother on matters of judgment – 14:1-1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n’t put a stumbling-block in his path by your actions – 14:13-2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flect the example of Christ, who gave Himself as a sacrifice for others – 15:1-1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y you abound in joy, peace, and hop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ef Summary of Rom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d’s Plan For Righteousnes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revealed in the gospel – 1:1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needed by all – 1:18 – 3:2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given through faith – 3:21 – 5:1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lves the problem of sin – 5:12 – 6: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vercomes the curse of the law – 7:1-2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for all man’s spiritual needs – 8:1-3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lfills the hope of true Israel – 9:1 – 11:3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ands righteous lives – 12:1 – 15:1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ul’s plans for the near future – 15:14-3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etings and closing remarks – 16:1-2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962520"/>
            <a:ext cx="609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29600" y="4038480"/>
            <a:ext cx="0" cy="1752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315200" y="5791320"/>
            <a:ext cx="9144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 rot="5400000">
            <a:off x="7753680" y="4514040"/>
            <a:ext cx="17510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oday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18148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55627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ul Sails to Troas (Acts 20:3b-6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549440"/>
            <a:ext cx="8153280" cy="530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590920" y="2057400"/>
            <a:ext cx="685800" cy="457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ul Sails to Troas (Acts 20:3b-6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62520" y="1598400"/>
            <a:ext cx="471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ul had planned to sail from Corinth, straight for Syria on his way to Jerusa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ut the Jews plotted to kill hi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 Paul went back through Macedon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1603440"/>
            <a:ext cx="3528720" cy="26049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28600" y="4648320"/>
            <a:ext cx="4038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ompanions to Jerusalem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Sopater, Aristarchus, Secundus, Gaius, Timothy, Tychicus, Trophimus, and Luk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ef Summary of Romans 1-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od’s Plan For Righteousnes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revealed in the gospel – 1:1-1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needed by all – 1:18 – 3:2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s given through faith – 3:21 – 5:1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lves the problem of sin – 5:12 – 6:2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comes the curse of the law – 7:1-2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ef Summary of Rom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d’s Plan For Righteousnes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revealed in the gospel – 1:1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needed by all – 1:18 – 3:2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given through faith – 3:21 – 5:1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lves the problem of sin – 5:12 – 6: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vercomes the curse of the law – 7:1-2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for all man’s spiritual needs – 8:1-3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lfills the hope of true Israel – 9:1 – 11:3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ands righteous lives – 12:1 – 15:1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ul’s plans for the near future – 15:14-3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etings and closing remarks – 16:1-2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3962520"/>
            <a:ext cx="609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29600" y="4038480"/>
            <a:ext cx="0" cy="1752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315200" y="5791320"/>
            <a:ext cx="9144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 rot="5400000">
            <a:off x="7753680" y="4514040"/>
            <a:ext cx="17510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oday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s 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od’s Plan Provides For Man’s Spiritual Nee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Chr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lking After The Spirit and Not The Fles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Condemnation, but Life IN HIM – 8:1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lory Far Surpassing Any Comparisons To Sufferings We Face Here – 8:18-2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urity In His Love – 8:28-3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s 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22636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ul’s Grief Over Fleshly Israel’s Unbelief -9:1-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’s Gifts To Israel Had Been Great – 9:4-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ing A Physical Descendant of Abraham Did Not Assure God’s Favor -9:6-1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d chose Isaac over Ishmael -6-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d chose Jacob over Esau -11-1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d was righteous in punishing sinful Pharaoh and pardoning sinful Israel -14-18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’s Choices Were Above The Jews’ Criticism -9:19-2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ven Hosea shows that God’s favor would not be limited to fleshly Israel.- vs.25-26; Hos.2:23; 1: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ven Isaiah shows that only a remnant of Israelites would be saved – vs.27-29; Isa.10:22-23; 9:27-28; 1:9; 9:29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ntiles gained favor through faith – 9:3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sraelites lost favor through unbelief – 9:31-3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s 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Jews tried to establish their own system of righteousness by wo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failed because they did not accept God’s plan – 10:1-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eousness by faith is based upon faith in the gospel which is preached to all – 10:5-1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th comes when men will both hear and believe the message of Christ – 10:16-1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Jews were informed about God’s plan to save Gentiles -10:18-2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most refused to he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s 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God has not rejected His people – 11:1-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e saves those who believe on Him and love Him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hether Jew or Gentil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Most of Israel hardened their hearts -11:7-1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ose who believed were cho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srael’s disobedience furnished the occasion for the Gentile’s salvation -11:11-1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aul rejoices in his work among the Gentiles -11:13-1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oping to provoke his own people to seek salvation to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Gentiles are not to think that they have been saved because of how righteous they are – 11:17-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ey stand by their faith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Or, they will also fall because of unbelief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God is both good and severe -11:22-2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mans 1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nowledge of God’s plan will prevent arrogance on the part of Gentile Christians – 11:25-2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od does not hate the Jews – 11:28-3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’s willing for them to believe and be saved from their sins too –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aise God for His great riches of wisdom and knowledge – 11:33-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ief Summary of Rom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d’s Plan For Righteousnes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revealed in the gospel – 1:1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needed by all – 1:18 – 3:2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given through faith – 3:21 – 5:1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lves the problem of sin – 5:12 – 6: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vercomes the curse of the law – 7:1-2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s for all man’s spiritual needs – 8:1-3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lfills the hope of true Israel – 9:1 – 11:3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mands righteous lives – 12:1 – 15:1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ul’s plans for the near future – 15:14-3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etings and closing remarks – 16:1-2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3962520"/>
            <a:ext cx="609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4038480"/>
            <a:ext cx="0" cy="1752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15200" y="5791320"/>
            <a:ext cx="9144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 rot="5400000">
            <a:off x="7753680" y="4514040"/>
            <a:ext cx="17510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oday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72428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8:28:02Z</dcterms:created>
  <dc:creator>Terry W. Benton</dc:creator>
  <dc:description/>
  <dc:language>en-US</dc:language>
  <cp:lastModifiedBy>Terry W. Benton</cp:lastModifiedBy>
  <dcterms:modified xsi:type="dcterms:W3CDTF">2007-01-18T20:37:16Z</dcterms:modified>
  <cp:revision>4</cp:revision>
  <dc:subject/>
  <dc:title>Go Tell The Good News –Part 2</dc:title>
</cp:coreProperties>
</file>